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CD92-D206-4F81-AA29-10CC372CE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7DD-D15A-4762-B188-1A2E4E55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697-D8D8-4764-9250-5EFD5AF2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2A8-A346-4701-8A67-2095EADA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82B-7E78-411D-8518-A5F7CBD7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AFC-18B3-4BA1-A297-D7696E24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AB2-0438-42D1-A0B7-A52F6CB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DE1-C073-42F3-B70F-B18247B9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EA4-D0FA-4D74-A8EA-A5AF0475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80C-A148-4C7A-BCF6-CB769978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89E-7A2C-4F68-BB2D-FFDEDB18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609-F984-441C-88C8-1CCC3FB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BED-E8B4-4E3E-8791-0F323BE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D57-6EC5-41A2-9696-8165123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6DD1-46CE-4DC8-AC99-B9E626E31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8:35Z</dcterms:modified>
  <cp:revision>102</cp:revision>
  <dc:subject/>
  <dc:title>Profile</dc:title>
</cp:coreProperties>
</file>